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LASER.WAV" ContentType="audio/x-wav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7935-5458-465C-982F-4C84752A28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7B19-2299-4299-A4BF-836B37BBF58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F957-D265-4A3A-9F89-3DB0C8D8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F170-685C-4223-BA1D-92A4B58C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E7D0-0991-4EF7-99ED-74788259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FCD-347C-4992-AB71-24470F5A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C7E-09B5-4EFD-B9A2-6DD1A945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D05-71AB-4EA8-94B9-277C65FF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F4F-1844-4595-B77C-0FC42195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952-941A-4432-931E-A0A16C37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ACE-7273-428C-83E2-1B4275F7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83DE-74AE-4A0D-9E3E-969E883B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DCE-A31C-4C7E-B7E5-93E2FBF9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0EC0-30DF-42C1-A699-5D29AE77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D358-54B8-4000-9ED2-F721654281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Lucida Sans"/>
              </a:rPr>
              <a:t>Nazi-Soviet Pac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0000" y="6340320"/>
            <a:ext cx="300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By Mr Barg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Hugh Christie Technology Colleg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765480" y="6340320"/>
            <a:ext cx="229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Downloaded fr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www.SchoolHistory.co.u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Sans"/>
              </a:rPr>
              <a:t>BACKGROUN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Stalin had been very worried about German threats to the Soviet Union since Hitler came to power in 19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Hitler had openly stated that he wanted Soviet land for his Lebensra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Stalin tried to create alliances with Britain and France but to no av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In 1934 Stalin took the USSR into the League of Nations as a guarantee against German aggres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Sans"/>
              </a:rPr>
              <a:t>The League Of 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Stalin gained no satisfaction from the League. Instead he saw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Abyssi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Spanish Civil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German rearma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  <p:sndAc>
      <p:stSnd>
        <p:snd r:embed="rId1" name="WHOOSH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Handwriting"/>
              </a:rPr>
              <a:t>Britain and Fr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Brita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Some welcomed a strong Germany as a force to fight Communi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Communism was seen as a bigger threat than Hi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Fran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Stalin signed a pact with France in 193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He did not trust the French to keep to it- especially after Rhine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75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75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75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75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75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Handwriting"/>
              </a:rPr>
              <a:t>The Munich Agre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This agreement made Stalin even more w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Stalin was not consulted about the agre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Stalin concluded that Britain and France were powerless to stop Hit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Or that they were happy for Hitler to take over Eastern Europe and the USS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  <p:sndAc>
      <p:stSnd>
        <p:snd r:embed="rId1" name="WHOOSH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Handwriting"/>
              </a:rPr>
              <a:t>The Next Mov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Despite misgivings Stalin was still prepared to talk to Britain and France about an al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The three countries met in March 19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Chamberlain was reluctant to commit Brit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Stalin believed that Britain and France made things worse by guaranteeing to defend Poland if it were atta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Chamberlain saw the guarantee as a warning to Hit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"/>
              </a:rPr>
              <a:t>Stalin saw it as support for a potential enem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Handwriting"/>
              </a:rPr>
              <a:t>A Twist in the tal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Negotiations continued between Britain, France and the USSR throughout Spring and Summer 1939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Stalin, however, was also getting visits from Nazi foreign minister Ribbentrop to discuss a Nazi-Soviet p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Lucida Handwriting"/>
              </a:rPr>
              <a:t>The deed is don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On 24 August 1939 Stalin made his decision and signed a pact with Germa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The world was shocked as two arch enemies promised not to attack each 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Lucida Sans"/>
              </a:rPr>
              <a:t>Privately they also agreed to divide Po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Lucida Handwriting"/>
              </a:rPr>
              <a:t>Why did Stalin sign the pact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Stalin was not convinced that Britain and France would be strong and reliable allies against Hit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He also wanted large parts of eastern Po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Lucida Sans"/>
              </a:rPr>
              <a:t>He did not believe that Hitler would keep his word. He wanted time to build up his for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horz"/>
    <p:sndAc>
      <p:stSnd>
        <p:snd r:embed="rId1" name="WHOOSH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3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75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75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75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17:37:27Z</dcterms:created>
  <dc:creator>Paul Bargery</dc:creator>
  <dc:description/>
  <dc:language>en-US</dc:language>
  <cp:lastModifiedBy>.</cp:lastModifiedBy>
  <dcterms:modified xsi:type="dcterms:W3CDTF">2010-03-12T08:15:40Z</dcterms:modified>
  <cp:revision>4</cp:revision>
  <dc:subject/>
  <dc:title>Nazi-Soviet Pact</dc:title>
</cp:coreProperties>
</file>